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357-64A9-45E2-B849-26808928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6E2-D29F-4A1D-B6AC-04203CF0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99D-96C4-4AC6-9AAA-93F8214E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803-84C9-4C79-BEB5-CD164854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945-179C-4C20-92E1-0BD10DC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E3A-7061-49E1-AD93-6F7CDADA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E97-BB57-4BA0-822E-87F443FD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65A-FE26-46E7-9112-BE491BCE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128-2C69-4C2A-802E-DFBAF4DC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48D-9BA8-4342-9795-B04BA962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CBE-A570-4AD8-AA25-DF21AF86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A28-3DE2-468F-9CFD-AB968BC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5A87-B8A9-457E-AD72-0EF2BB937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124080"/>
            <a:ext cx="5867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143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362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670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36576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47242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486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240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3920"/>
            <a:ext cx="914400" cy="1676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4280" y="-31680"/>
            <a:ext cx="18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OBD 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rch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0292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WL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53280" y="4191120"/>
            <a:ext cx="533520" cy="609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r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3"/>
            <a:endCxn id="62" idx="1"/>
          </p:cNvCxnSpPr>
          <p:nvPr/>
        </p:nvCxnSpPr>
        <p:spPr>
          <a:xfrm>
            <a:off x="7620120" y="4495680"/>
            <a:ext cx="533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3"/>
            <a:endCxn id="62" idx="2"/>
          </p:cNvCxnSpPr>
          <p:nvPr/>
        </p:nvCxnSpPr>
        <p:spPr>
          <a:xfrm flipV="1">
            <a:off x="8153280" y="4800600"/>
            <a:ext cx="267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546840" y="1828800"/>
            <a:ext cx="10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PAR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ver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9200" y="129528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50532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5638680"/>
            <a:ext cx="76176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864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581280"/>
            <a:ext cx="5867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2860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1430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8195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114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4724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en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114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5638680"/>
            <a:ext cx="1447920" cy="9144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ple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41148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11480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14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840" y="42670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Q2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581280"/>
            <a:ext cx="1067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191120"/>
            <a:ext cx="685800" cy="1218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2:45:09Z</dcterms:created>
  <dc:creator>Chris Mungall</dc:creator>
  <dc:description/>
  <dc:language>en-US</dc:language>
  <cp:lastModifiedBy>Chris Mungall</cp:lastModifiedBy>
  <dcterms:modified xsi:type="dcterms:W3CDTF">2008-03-18T21:26:22Z</dcterms:modified>
  <cp:revision>39</cp:revision>
  <dc:subject/>
  <dc:title>The NCBO Open Biomedical Ontology Database</dc:title>
</cp:coreProperties>
</file>